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CBFC-1592-4063-9D44-396001458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93DD-6B17-4D6A-98AB-ECAFA4D5A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6CD1-D6FF-41DD-A469-C003E5630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057A-AACC-4F40-9222-1C47B09F1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8EFA-5565-4559-9F7A-2CEBBAE1C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780A-87A7-4A7A-9C66-109A089FB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8439-A6D4-4C67-840D-F647BB839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5807-B81B-426F-AB25-38BDBD205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38CE-1DCD-4654-A664-1E1B9C62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785D-CD15-40EC-9A3C-6F3300A2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29C-D6E1-43C1-8187-A40F5B60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C63-2E99-4D2E-8294-74EA688C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DE7-6546-45B2-8177-B5C00B9E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9CC4-EBD2-49BE-9653-863A05F4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FC6-77AC-4FFE-863D-D3E811D5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33DB-0048-4FA3-B5FD-5FF1134F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137-36F2-4AA6-9674-069A75F3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A42-8577-41AE-96B6-50064C27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0D9-B12F-44DE-80C8-C2DD553F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FD3-93DD-43B2-9AAD-0DA10CFE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50000">
              <a:srgbClr val="ff8000"/>
            </a:gs>
            <a:gs pos="100000">
              <a:srgbClr val="000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6CF0-C711-4BF8-B377-F90549748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irMdITC TT-Medium"/>
              </a:rPr>
              <a:t>Brain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lways wanted to know what gender solved problems quic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redict that the boys will solve the problem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mater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first subject into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them how the test 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hem while they are finishing a puzzle from eac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time if only 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the test to the next su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step 5 until everyone has g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y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3520" y="1523880"/>
          <a:ext cx="8381880" cy="5245200"/>
        </p:xfrm>
        <a:graphic>
          <a:graphicData uri="http://schemas.openxmlformats.org/drawingml/2006/table">
            <a:tbl>
              <a:tblPr/>
              <a:tblGrid>
                <a:gridCol w="2081160"/>
                <a:gridCol w="1574640"/>
                <a:gridCol w="1575000"/>
                <a:gridCol w="1576440"/>
                <a:gridCol w="1574640"/>
              </a:tblGrid>
              <a:tr h="125640">
                <a:tc>
                  <a:txBody>
                    <a:bodyPr lIns="26280" rIns="26280" tIns="26280" bIns="26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920" rIns="16920" tIns="8280" bIns="8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8280" bIns="8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8280" bIns="8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8280" bIns="8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a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xp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Mas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Wiz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oy 1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.09.12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4.15.46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oy 2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Junior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.54.52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oy 3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.00.15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31.63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.05.78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verage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50.13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73.07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4.15.46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.05.78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irl 1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2.26.66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irl 2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9.5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36.26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irl 3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verage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78.08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36.26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N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right. The boy’s average was quicker because the girls had many DNF or Did Not Finish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6:38:44Z</dcterms:created>
  <dc:creator>Sterling JrHi</dc:creator>
  <dc:description/>
  <dc:language>en-US</dc:language>
  <cp:lastModifiedBy>stallings family</cp:lastModifiedBy>
  <dcterms:modified xsi:type="dcterms:W3CDTF">2010-02-12T01:43:57Z</dcterms:modified>
  <cp:revision>4</cp:revision>
  <dc:subject/>
  <dc:title>Run…..Run……RUN</dc:title>
</cp:coreProperties>
</file>